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496C-9F21-4052-86FE-55F38E29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D71-D4EE-45C0-916A-96CF5359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FF34-8458-48DA-9714-5443E006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C9C2-7101-44B2-9D5E-DE00E190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50F1-8847-4914-A201-D1E423B6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99E3-CA30-455E-9C94-DE30F1A4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9328-80B6-4741-88C6-99DE40C8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2A48-CC33-4918-BFE1-323AD7F4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FD38-5C90-43CC-B8A8-BED7D93A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CDC1-5923-4F9A-A4BB-723CFDBE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8951-A3B9-49BF-85CB-425BA6B0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3ED5-D08F-4872-80C2-F0BB124B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A343-324F-4E88-8B38-424A0932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C8A9-562E-4C0B-8E62-A1ACF346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7956-A2CF-4DD5-861E-F952262E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825D-FB9B-4731-96E2-8453A924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9E5E-6924-4E1E-BD98-40D993CA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15A-52BC-41A0-BFA8-D8E1A3DF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8176-EB50-40BF-9FAC-1C688BD4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148D-8CDA-4448-85B7-F7E15EFD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E64F-8203-47CA-8306-12A975B0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0B4-EDE1-4388-807B-551A55B3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A6EC-4E38-4A33-A45B-562E8DBD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9C25-9844-45AE-A517-EFC8D103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4701-3ACD-418D-B36F-FF1E1D468F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8566-F713-4203-8755-ADDB78F726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ise.ufl.edu/~dcc/pub/flag/flag6600.gif&amp;imgrefurl=http://academic.udayton.edu/rotc/section_ii__history_and_traditi.htm&amp;usg=__lbWkKB0HkSVCpYtBVVVbeWesKYU=&amp;h=3473&amp;w=6600&amp;sz=81&amp;hl=en&amp;start=10&amp;tbnid=SdXCLB1p8lBlwM:&amp;tbnh=79&amp;tbnw=150&amp;prev=/images%3Fq%3DUnion%2BArmy%2BFlag%26gbv%3D2%26hl%3Den%26safe%3Dactive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ivilwar.com/" TargetMode="External"/><Relationship Id="rId2" Type="http://schemas.openxmlformats.org/officeDocument/2006/relationships/hyperlink" Target="http://www.lincolnbicentennial.gov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Lincoln’s Lif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Colton Crocket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aron 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91360" y="3276720"/>
            <a:ext cx="2646360" cy="31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important thing that Lincoln accomplished was saving the Union and freeing the sl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4114800"/>
            <a:ext cx="295272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orks Cit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civilwar.co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3/16/09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www.lincolnbicentennial.gov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3/16/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restling Presidents, by William S. Worley and Gary M. Gray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you will lear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’s impact on the w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residency during the Civil W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n that started the Civil Wa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14600" y="3610080"/>
            <a:ext cx="3352680" cy="3247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ncoln’s Childhoo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in Kentucky in a log cab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on February 12,18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mother died in 18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62520" y="3733920"/>
            <a:ext cx="4524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amil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- Nancy Hanks Linco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- Thomas Linco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ther &amp; Sister-Thomas &amp; Sarah Linco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Mother- Sarah Johns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fe- Mary Tod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Sons- Robert, Edward Baker, William, Tho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22860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restl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estled his neighbors when he was a young bo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called it “no-holds-barr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on the county championship at 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got a job, and wrestled every evening after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2365200"/>
            <a:ext cx="43909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litics before Presiden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 for Illinois Legisl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Represent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41000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siden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ugurated as president in March 186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this, seven states seceded from the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ed a strong cabinet that included all of his major riv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257800" y="41148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mportant Achievement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ancipation Procla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ing the Union and freeing the sl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tysburg Address (Nov. 19, 186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7782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ssassination of Lincol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ed by John Wilkes Boo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nding a theater s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ot from behind, in the 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killer was never f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724280" y="2666880"/>
            <a:ext cx="434340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5:49:46Z</dcterms:created>
  <dc:creator>aaronjlease</dc:creator>
  <dc:description/>
  <dc:language>en-US</dc:language>
  <cp:lastModifiedBy>aaronjlease</cp:lastModifiedBy>
  <dcterms:modified xsi:type="dcterms:W3CDTF">2009-03-20T15:49:00Z</dcterms:modified>
  <cp:revision>11</cp:revision>
  <dc:subject/>
  <dc:title>Lincoln’s Life</dc:title>
</cp:coreProperties>
</file>